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31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2212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6C39-7B07-43C3-9446-2A2CA475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43B-B1FA-4E7E-BBA3-9475BF1C7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E4D1-FEAF-4730-83F9-9AE52DAE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C05C-F416-43B9-9538-AB85D1752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8626-3877-45E1-92D1-15F703FE8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DBA5-66C4-4447-BC2E-7E8297FE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130E-9DC6-4C45-8FA4-AD868C2D0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2A61-9DA5-46C2-B75E-AABDE193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E3C-9798-4CD6-A081-3B2FEDEED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80DD-4E2A-4F45-A444-F7125124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973-3720-43B2-ABB1-215BCA169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5CF3-4D24-4287-ABEE-371645E9E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E8EB-89F6-41FF-9239-5B63B4F9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D784-0C7B-46E1-81B4-9158C37E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B8AA-565A-4CEB-B451-3F059632F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192-5648-49E9-BEB2-C91ACD8A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92BD-27CB-4B05-ABFC-F5EF0D0E1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5728-FD3B-4B22-9068-8B8C7B48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DFA4-0312-4A7F-B860-E835F904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C3158-1D3C-4684-B73F-0A26F0FF7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5ADB-1866-411B-92EA-42F638B4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71A154-63A8-4DE7-B302-246CDBAD44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8B1A34-8A4C-41E8-BD87-9CDCD908196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BC1228-C0C1-4BEE-9E86-0B2E77D7BB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B62BA-FAB9-4CB4-BEEB-516EE11E46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AE34EC-27FF-4911-B3F4-A3A4E8F403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49D9F8-8981-4549-9121-270ADCC340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084DD9-AE1A-41BF-8F75-C3BB06AECB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488606-7520-4C39-8B26-BC010262FE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6BE97D-B9E3-4782-A563-3864E8E3475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A6C88-2116-4853-B113-2EF02EF4A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373E-E374-458E-A7E7-64E4BEEE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9530C-BBC5-4B63-B254-EC44BCFCDA7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179F85-325F-4C26-B209-5A8097E3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4A903B-C189-4CEA-A934-8024F92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7A646-30EA-489C-BC2F-CBCDB5B1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56D83-A371-4D46-A180-5A4B0126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61D73-FAC9-43CB-9697-775BDA2D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BF74B7-197D-45A3-B8E0-B6D6ED68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AAD902-F3CF-47E9-86E2-CEF240A8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E73820-F86F-4B96-B702-AEFFA4D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3FFC38-1E49-41EF-A29A-00F637DD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729C0-62B5-45D5-9411-99E85DEF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9EBB07-307D-4D68-B3AB-4081FC07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757EF-316E-4A38-A58A-DA3966DA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3B6BCB-C2E7-4CAE-AE3D-3E20D493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B017-70A0-4312-ACD4-B165CB6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F2D1-C241-4021-89DB-73B5E033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454B-6691-47D6-AEB2-96AB8C4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E3BD4-535C-4568-898F-4B969CA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FCF0-6A2E-45F7-AD7B-509D5B61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D16FE-0E98-4CC8-BB51-8A8497E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4852-66C4-4FBD-B069-D932F9FE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E7F4-FE30-4EB8-83D8-6975F84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8167E-74F8-4D24-BDF7-24132B6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FCA55-45DC-480C-8361-01668328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F2D1A-C19A-4B63-B478-8B9E2E91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7F62C-962A-4C77-A4C4-B61513C2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CF9A-4611-4D91-BDD6-414C70E7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9783-2F7A-48A9-8284-2692C04B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E82E-30FE-448E-AE48-BAB50148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9077-2CCB-492F-99B5-8D9DD4E2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F612-BFD7-41C9-B53A-D0D93617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873D-BB8E-4981-821A-8DC418D9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9F44-4857-4AAB-8CA9-117A88FA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F959-DF60-466B-98E5-C1389B7C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C7AF-F6AB-4C76-A743-17D0067F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0610-46BE-478C-A63D-91C9D7F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1C0F-EF51-4D80-BD0A-D01AEDE4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4EE5-1CA7-4468-ABA3-69B7DAB8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9DA1-02F6-4D12-B87D-49EEF694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3850-7786-46F4-993D-26422F63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75F6-7BB8-4BED-93FA-C5BEAA8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EB74-7676-4877-ABB9-FCA1D457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78BF-7D61-435D-AA84-2B0E9F0B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8D45-355E-40F5-80CC-DAA775A0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15740-F6AC-483D-8EF5-813F0450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9926-CED7-4640-9F40-4E152E9B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5C82-7449-4923-8468-539450D5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A7F5-A644-4F8B-B194-8E1B28B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8D93-56A0-451E-B638-3328E54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FB3F-3912-4CA9-A602-DCE7932F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2621-BBE4-4CDE-A7DF-49E6EDBC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FE48-4756-4480-995C-FF95DD72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68B7-335C-4AE4-AB78-308C12D3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615D-4291-4291-A7C5-A9F6CBE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56FE3-479B-4F0F-8D54-B3888F983CE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84A35-157C-4F4F-9E31-BC11CF4C887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8BA75-B1E4-4589-B6A6-710275773F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0D643-89A8-489C-B647-8AE522BCBA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6FB4F-A94B-4E0C-815B-D619517639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6358E-3E29-40D5-B5A3-C36F5B78BB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7188D-8F50-4356-8D97-C9D784A796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F876B-40C0-4014-99EF-DBEB6EE52E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1F09F9-060F-4855-84C1-14108CCDB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124C-6782-4A76-91A6-B0E839E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1D9F8D-F907-4891-9D2B-EC49811EE6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243BA-657B-47EE-851A-B2B97EDECE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00FD51-C1C6-460A-AC55-6B73815F10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0C0C4-97CB-4C69-82AD-E70F62F6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851BF-2CED-42D3-A149-A3422C8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0EF3B-4216-44E0-BF96-0E16EDF5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768AE-4AB2-4AE1-8DF8-67173E79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43F58-EF48-4B43-BDC3-53C933E5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BFF79-61B3-46EC-A3CB-1D54F3EA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FC576-3717-4764-A22C-99D7BB0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5F3C-5DF8-4756-823F-A92B1EE3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C677C-01BE-4221-B2B1-A6D8DE3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837DB-8B74-492D-883E-C637A216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FBAAE-5D5D-4827-AFD4-DA36E24A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5D6BA-F910-4E49-8484-1D36E324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07ADD-BB55-4A2B-854F-25654F80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D0CB-F266-4739-92E4-2E15F6DB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F416A05-4272-4A9C-BF9B-FDEA5C1A6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8392F88A-A327-4E33-9D77-677FC555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26D5CBB2-D552-4DF0-8588-9F123131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8C7D91AE-01E4-4CEE-82DE-C144C3EA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0ED4-2263-4F1F-B92D-EE58F4E0D17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F786-8684-49F8-81F8-F1B64106F18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DBE5A326-880F-44EF-864E-9757BA76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6320582-741D-435C-B830-5251865D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oosterjuice.com/" TargetMode="External"/><Relationship Id="rId2" Type="http://schemas.openxmlformats.org/officeDocument/2006/relationships/hyperlink" Target="http://www.thefranchisecoach.net/boosterjuice.htm?gclid=CMG1r-D77rwCFTBgMgodFXsA5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49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6 -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fter studying this chapter, you should be able t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cribe the significance of franchising in Canad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dentify the major advantages and limitations of  franchis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cuss the process for evaluating a franchise opportunity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valuate franchising from the franchisor’s perspective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.  Describe the critical franchisor/franchisee relationshi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.  Understand issues related to franchise regulation in Canada and know the warning signs of franchise frau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2358760-31C3-49A3-BC78-32C231E362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dvantage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8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en marketing concept and customer b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use of an established, nation-wide bra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y help alleviate managerial weakness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al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-up business costs are normally high and thus by teaming up with a franchise organization, the individual can increase her/his chance of receiving financial help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rating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ranchisor provides a range of operating services including site selection, bulk purchasing of equipment, and inventor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217840A-E84C-4F81-862F-DF47C3348E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6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ations of Franchising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triction of Business Op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e co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s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te approval requi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tlet 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ods/services to be so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ale of franch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 and hours of op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independ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E93032C1-DCE3-4FF7-B672-FB8427499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0" name="Picture 4" descr="PE01844_"/>
          <p:cNvPicPr/>
          <p:nvPr/>
        </p:nvPicPr>
        <p:blipFill>
          <a:blip r:embed="rId1"/>
          <a:stretch/>
        </p:blipFill>
        <p:spPr>
          <a:xfrm>
            <a:off x="5181480" y="2362320"/>
            <a:ext cx="2955960" cy="2514600"/>
          </a:xfrm>
          <a:prstGeom prst="rect">
            <a:avLst/>
          </a:prstGeom>
          <a:ln w="0">
            <a:noFill/>
          </a:ln>
        </p:spPr>
      </p:pic>
      <p:pic>
        <p:nvPicPr>
          <p:cNvPr id="78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ng Franchise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ng a Franchise Opportun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ing the Potential 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ependent, third-party 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ors themse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isting and previous franchise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539F9209-CEB9-4BF0-B72D-BEB4CAA95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5" name="Picture 4" descr="j0159074"/>
          <p:cNvPicPr/>
          <p:nvPr/>
        </p:nvPicPr>
        <p:blipFill>
          <a:blip r:embed="rId1"/>
          <a:stretch/>
        </p:blipFill>
        <p:spPr>
          <a:xfrm>
            <a:off x="5867280" y="3824280"/>
            <a:ext cx="2568600" cy="2263680"/>
          </a:xfrm>
          <a:prstGeom prst="rect">
            <a:avLst/>
          </a:prstGeom>
          <a:ln w="0">
            <a:noFill/>
          </a:ln>
        </p:spPr>
      </p:pic>
      <p:pic>
        <p:nvPicPr>
          <p:cNvPr id="786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lanation of 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09480" y="144756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e f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and Last Month’s R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sehold Impr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 and Fix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781160" y="14475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, Licences and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itial Inventor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0" name="Picture 5" descr="j0300842"/>
          <p:cNvPicPr/>
          <p:nvPr/>
        </p:nvPicPr>
        <p:blipFill>
          <a:blip r:embed="rId1"/>
          <a:stretch/>
        </p:blipFill>
        <p:spPr>
          <a:xfrm>
            <a:off x="6248520" y="4608360"/>
            <a:ext cx="2209680" cy="1441440"/>
          </a:xfrm>
          <a:prstGeom prst="rect">
            <a:avLst/>
          </a:prstGeom>
          <a:ln w="0">
            <a:noFill/>
          </a:ln>
        </p:spPr>
      </p:pic>
      <p:pic>
        <p:nvPicPr>
          <p:cNvPr id="79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Franchising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torically, many Canadian franchisors have expanded into the United St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adian franchising enterprises are now expanding into countries beyond North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gen Fruz – 1,580 stores in 30 countri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ractive growth prospec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strializing countries with large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tries with an expanding middle class and higher disposable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A680E5C2-87F9-45FB-A0D2-9AAA0978F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5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stigating the Franchise Candid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sources of inform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third party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isting and previous franchi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s a 2-way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AA8C3C42-6122-49F0-8D3F-ACAAC4542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9" name="Picture 4" descr="bd06578_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001960"/>
          </a:xfrm>
          <a:prstGeom prst="rect">
            <a:avLst/>
          </a:prstGeom>
          <a:ln w="0">
            <a:noFill/>
          </a:ln>
        </p:spPr>
      </p:pic>
      <p:pic>
        <p:nvPicPr>
          <p:cNvPr id="800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or as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 of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losure doc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 detailed statement of information such as the franchisor’s finances, experience, size, and involvement in 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C9F5B567-76F7-47EF-8E70-E69A180F0E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C:\Users\Elke\AppData\Local\Microsoft\Windows\Temporary Internet Files\Content.IE5\GVKA48UK\MCj02955670000[1].wmf"/>
          <p:cNvPicPr/>
          <p:nvPr/>
        </p:nvPicPr>
        <p:blipFill>
          <a:blip r:embed="rId2"/>
          <a:stretch/>
        </p:blipFill>
        <p:spPr>
          <a:xfrm>
            <a:off x="594360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ling a Franchi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would a businessperson wish to become a franchisor? Three benefits can be identifie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of capital requir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management moti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peed of expan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backs associated with franchising from the franchisor’s perspectiv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haring of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operating sup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5DF7D61-6615-412B-83C0-61F8A9477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0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e Relation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ments to look for in a franchise relationship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sive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pat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pend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ive and tak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ticip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pen-minded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00CDBBA9-580A-41B1-BF9A-36C7E5B454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4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in Canad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is a way to finance growth for and attract talent to a small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has grown since the 1950’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llows a proven concept to be duplic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40% of retail sales from Franchises – with predicted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re than 100 Canadian companies now franchising internation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Booster Ju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380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oosterjuice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8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1332000"/>
            <a:ext cx="1904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marketing system revolving around a two-party legal agreement, whereby the franchisee conducts business according to the terms specified by the franchis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 con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egal agreement between franchisor and franchis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vileges conveyed in the franchise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45D3FBEC-979E-4C2D-B3A2-8141832E9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ntrepreneur whose power is limited by a contractual agreement with a franchis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rty in the franchise contract that specifies the methods to be followed and the terms to be met by the other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9B93DC67-C0E6-4B1B-B26F-72CADC401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nd Trade Name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nts the right to use a widely recognized product or name  (i.e. gas station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-Format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vides an entire marketing system and ongoing guidance from the franchisor  (i.e. fast-foo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ggyback Franch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operation of a retail franchise within the physical facilities of a host store  (i.e. complementary food service in a fast food sto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633D017-4FC7-4936-A04F-0A07579656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ster Licen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independent firm or individual acting as a sales agent with the responsibility for finding new franchises within a specified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ltiple-Unit Own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lding by a single franchisee of more than one franchise from the sam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 Develo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ividuals or firms that obtain the legal right to open several franchised outlets in a given ar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4F7A2C89-7B79-4121-B789-C2F85920F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306280" y="60199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hibit 4-2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542880" y="1359000"/>
            <a:ext cx="8075520" cy="3956040"/>
            <a:chOff x="542880" y="1359000"/>
            <a:chExt cx="8075520" cy="3956040"/>
          </a:xfrm>
        </p:grpSpPr>
        <p:pic>
          <p:nvPicPr>
            <p:cNvPr id="655" name="Picture 4" descr=""/>
            <p:cNvPicPr/>
            <p:nvPr/>
          </p:nvPicPr>
          <p:blipFill>
            <a:blip r:embed="rId1"/>
            <a:stretch/>
          </p:blipFill>
          <p:spPr>
            <a:xfrm>
              <a:off x="5503680" y="1359000"/>
              <a:ext cx="3114720" cy="39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"/>
            <p:cNvPicPr/>
            <p:nvPr/>
          </p:nvPicPr>
          <p:blipFill>
            <a:blip r:embed="rId2"/>
            <a:stretch/>
          </p:blipFill>
          <p:spPr>
            <a:xfrm>
              <a:off x="542880" y="1359000"/>
              <a:ext cx="30924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Freeform 6"/>
            <p:cNvSpPr/>
            <p:nvPr/>
          </p:nvSpPr>
          <p:spPr>
            <a:xfrm>
              <a:off x="3641760" y="1384560"/>
              <a:ext cx="1884240" cy="3922560"/>
            </a:xfrm>
            <a:custGeom>
              <a:avLst/>
              <a:gdLst>
                <a:gd name="textAreaLeft" fmla="*/ 0 w 1884240"/>
                <a:gd name="textAreaRight" fmla="*/ 1884600 w 1884240"/>
                <a:gd name="textAreaTop" fmla="*/ 0 h 3922560"/>
                <a:gd name="textAreaBottom" fmla="*/ 3922920 h 3922560"/>
              </a:gdLst>
              <a:ahLst/>
              <a:rect l="textAreaLeft" t="textAreaTop" r="textAreaRight" b="textAreaBottom"/>
              <a:pathLst>
                <a:path w="993" h="1913">
                  <a:moveTo>
                    <a:pt x="993" y="1713"/>
                  </a:moveTo>
                  <a:lnTo>
                    <a:pt x="993" y="1713"/>
                  </a:lnTo>
                  <a:lnTo>
                    <a:pt x="989" y="1752"/>
                  </a:lnTo>
                  <a:lnTo>
                    <a:pt x="977" y="1790"/>
                  </a:lnTo>
                  <a:lnTo>
                    <a:pt x="958" y="1825"/>
                  </a:lnTo>
                  <a:lnTo>
                    <a:pt x="935" y="1852"/>
                  </a:lnTo>
                  <a:lnTo>
                    <a:pt x="904" y="1879"/>
                  </a:lnTo>
                  <a:lnTo>
                    <a:pt x="874" y="1898"/>
                  </a:lnTo>
                  <a:lnTo>
                    <a:pt x="835" y="1909"/>
                  </a:lnTo>
                  <a:lnTo>
                    <a:pt x="793" y="1913"/>
                  </a:lnTo>
                  <a:lnTo>
                    <a:pt x="200" y="1913"/>
                  </a:lnTo>
                  <a:lnTo>
                    <a:pt x="161" y="1909"/>
                  </a:lnTo>
                  <a:lnTo>
                    <a:pt x="123" y="1898"/>
                  </a:lnTo>
                  <a:lnTo>
                    <a:pt x="88" y="1879"/>
                  </a:lnTo>
                  <a:lnTo>
                    <a:pt x="57" y="1852"/>
                  </a:lnTo>
                  <a:lnTo>
                    <a:pt x="34" y="1825"/>
                  </a:lnTo>
                  <a:lnTo>
                    <a:pt x="15" y="1790"/>
                  </a:lnTo>
                  <a:lnTo>
                    <a:pt x="3" y="1752"/>
                  </a:lnTo>
                  <a:lnTo>
                    <a:pt x="0" y="1713"/>
                  </a:lnTo>
                  <a:lnTo>
                    <a:pt x="0" y="200"/>
                  </a:lnTo>
                  <a:lnTo>
                    <a:pt x="3" y="157"/>
                  </a:lnTo>
                  <a:lnTo>
                    <a:pt x="15" y="119"/>
                  </a:lnTo>
                  <a:lnTo>
                    <a:pt x="34" y="84"/>
                  </a:lnTo>
                  <a:lnTo>
                    <a:pt x="57" y="57"/>
                  </a:lnTo>
                  <a:lnTo>
                    <a:pt x="88" y="30"/>
                  </a:lnTo>
                  <a:lnTo>
                    <a:pt x="123" y="15"/>
                  </a:lnTo>
                  <a:lnTo>
                    <a:pt x="161" y="3"/>
                  </a:lnTo>
                  <a:lnTo>
                    <a:pt x="200" y="0"/>
                  </a:lnTo>
                  <a:lnTo>
                    <a:pt x="793" y="0"/>
                  </a:lnTo>
                  <a:lnTo>
                    <a:pt x="835" y="3"/>
                  </a:lnTo>
                  <a:lnTo>
                    <a:pt x="874" y="15"/>
                  </a:lnTo>
                  <a:lnTo>
                    <a:pt x="904" y="30"/>
                  </a:lnTo>
                  <a:lnTo>
                    <a:pt x="935" y="57"/>
                  </a:lnTo>
                  <a:lnTo>
                    <a:pt x="958" y="84"/>
                  </a:lnTo>
                  <a:lnTo>
                    <a:pt x="977" y="119"/>
                  </a:lnTo>
                  <a:lnTo>
                    <a:pt x="989" y="157"/>
                  </a:lnTo>
                  <a:lnTo>
                    <a:pt x="993" y="200"/>
                  </a:lnTo>
                  <a:lnTo>
                    <a:pt x="993" y="1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58" name="Picture 7" descr=""/>
            <p:cNvPicPr/>
            <p:nvPr/>
          </p:nvPicPr>
          <p:blipFill>
            <a:blip r:embed="rId3"/>
            <a:stretch/>
          </p:blipFill>
          <p:spPr>
            <a:xfrm>
              <a:off x="3699000" y="1430640"/>
              <a:ext cx="1776240" cy="38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8" descr=""/>
            <p:cNvPicPr/>
            <p:nvPr/>
          </p:nvPicPr>
          <p:blipFill>
            <a:blip r:embed="rId4"/>
            <a:stretch/>
          </p:blipFill>
          <p:spPr>
            <a:xfrm>
              <a:off x="3787920" y="1548000"/>
              <a:ext cx="1600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9"/>
            <p:cNvSpPr/>
            <p:nvPr/>
          </p:nvSpPr>
          <p:spPr>
            <a:xfrm>
              <a:off x="386064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>
              <a:off x="424800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>
              <a:off x="463536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5021280" y="287532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386064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424800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463536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5021280" y="334836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386064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424800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463536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5021280" y="3822840"/>
              <a:ext cx="344520" cy="2365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386064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424800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463536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5021280" y="4295880"/>
              <a:ext cx="344520" cy="2383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386064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26"/>
            <p:cNvSpPr/>
            <p:nvPr/>
          </p:nvSpPr>
          <p:spPr>
            <a:xfrm>
              <a:off x="424800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4635360" y="4762800"/>
              <a:ext cx="730440" cy="24444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5" h="119">
                  <a:moveTo>
                    <a:pt x="385" y="61"/>
                  </a:moveTo>
                  <a:lnTo>
                    <a:pt x="385" y="61"/>
                  </a:lnTo>
                  <a:lnTo>
                    <a:pt x="381" y="80"/>
                  </a:lnTo>
                  <a:lnTo>
                    <a:pt x="374" y="100"/>
                  </a:lnTo>
                  <a:lnTo>
                    <a:pt x="362" y="115"/>
                  </a:lnTo>
                  <a:lnTo>
                    <a:pt x="354" y="115"/>
                  </a:lnTo>
                  <a:lnTo>
                    <a:pt x="347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47" y="0"/>
                  </a:lnTo>
                  <a:lnTo>
                    <a:pt x="354" y="3"/>
                  </a:lnTo>
                  <a:lnTo>
                    <a:pt x="362" y="3"/>
                  </a:lnTo>
                  <a:lnTo>
                    <a:pt x="374" y="19"/>
                  </a:lnTo>
                  <a:lnTo>
                    <a:pt x="381" y="38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79" name="Picture 28" descr=""/>
            <p:cNvPicPr/>
            <p:nvPr/>
          </p:nvPicPr>
          <p:blipFill>
            <a:blip r:embed="rId5"/>
            <a:stretch/>
          </p:blipFill>
          <p:spPr>
            <a:xfrm>
              <a:off x="379404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9" descr=""/>
            <p:cNvPicPr/>
            <p:nvPr/>
          </p:nvPicPr>
          <p:blipFill>
            <a:blip r:embed="rId6"/>
            <a:stretch/>
          </p:blipFill>
          <p:spPr>
            <a:xfrm>
              <a:off x="418140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30" descr=""/>
            <p:cNvPicPr/>
            <p:nvPr/>
          </p:nvPicPr>
          <p:blipFill>
            <a:blip r:embed="rId7"/>
            <a:stretch/>
          </p:blipFill>
          <p:spPr>
            <a:xfrm>
              <a:off x="4568760" y="279756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31" descr=""/>
            <p:cNvPicPr/>
            <p:nvPr/>
          </p:nvPicPr>
          <p:blipFill>
            <a:blip r:embed="rId8"/>
            <a:stretch/>
          </p:blipFill>
          <p:spPr>
            <a:xfrm>
              <a:off x="4957920" y="279756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"/>
            <p:cNvPicPr/>
            <p:nvPr/>
          </p:nvPicPr>
          <p:blipFill>
            <a:blip r:embed="rId9"/>
            <a:stretch/>
          </p:blipFill>
          <p:spPr>
            <a:xfrm>
              <a:off x="379404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3" descr=""/>
            <p:cNvPicPr/>
            <p:nvPr/>
          </p:nvPicPr>
          <p:blipFill>
            <a:blip r:embed="rId10"/>
            <a:stretch/>
          </p:blipFill>
          <p:spPr>
            <a:xfrm>
              <a:off x="418140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34" descr=""/>
            <p:cNvPicPr/>
            <p:nvPr/>
          </p:nvPicPr>
          <p:blipFill>
            <a:blip r:embed="rId11"/>
            <a:stretch/>
          </p:blipFill>
          <p:spPr>
            <a:xfrm>
              <a:off x="4568760" y="327060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5" descr=""/>
            <p:cNvPicPr/>
            <p:nvPr/>
          </p:nvPicPr>
          <p:blipFill>
            <a:blip r:embed="rId12"/>
            <a:stretch/>
          </p:blipFill>
          <p:spPr>
            <a:xfrm>
              <a:off x="4957920" y="327060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36" descr=""/>
            <p:cNvPicPr/>
            <p:nvPr/>
          </p:nvPicPr>
          <p:blipFill>
            <a:blip r:embed="rId13"/>
            <a:stretch/>
          </p:blipFill>
          <p:spPr>
            <a:xfrm>
              <a:off x="379404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"/>
            <p:cNvPicPr/>
            <p:nvPr/>
          </p:nvPicPr>
          <p:blipFill>
            <a:blip r:embed="rId14"/>
            <a:stretch/>
          </p:blipFill>
          <p:spPr>
            <a:xfrm>
              <a:off x="418140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8" descr=""/>
            <p:cNvPicPr/>
            <p:nvPr/>
          </p:nvPicPr>
          <p:blipFill>
            <a:blip r:embed="rId15"/>
            <a:stretch/>
          </p:blipFill>
          <p:spPr>
            <a:xfrm>
              <a:off x="4568760" y="374364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9" descr=""/>
            <p:cNvPicPr/>
            <p:nvPr/>
          </p:nvPicPr>
          <p:blipFill>
            <a:blip r:embed="rId16"/>
            <a:stretch/>
          </p:blipFill>
          <p:spPr>
            <a:xfrm>
              <a:off x="4957920" y="374364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40" descr=""/>
            <p:cNvPicPr/>
            <p:nvPr/>
          </p:nvPicPr>
          <p:blipFill>
            <a:blip r:embed="rId17"/>
            <a:stretch/>
          </p:blipFill>
          <p:spPr>
            <a:xfrm>
              <a:off x="379404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1" descr=""/>
            <p:cNvPicPr/>
            <p:nvPr/>
          </p:nvPicPr>
          <p:blipFill>
            <a:blip r:embed="rId18"/>
            <a:stretch/>
          </p:blipFill>
          <p:spPr>
            <a:xfrm>
              <a:off x="418140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"/>
            <p:cNvPicPr/>
            <p:nvPr/>
          </p:nvPicPr>
          <p:blipFill>
            <a:blip r:embed="rId19"/>
            <a:stretch/>
          </p:blipFill>
          <p:spPr>
            <a:xfrm>
              <a:off x="4568760" y="421020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3" descr=""/>
            <p:cNvPicPr/>
            <p:nvPr/>
          </p:nvPicPr>
          <p:blipFill>
            <a:blip r:embed="rId20"/>
            <a:stretch/>
          </p:blipFill>
          <p:spPr>
            <a:xfrm>
              <a:off x="4957920" y="421020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4" descr=""/>
            <p:cNvPicPr/>
            <p:nvPr/>
          </p:nvPicPr>
          <p:blipFill>
            <a:blip r:embed="rId21"/>
            <a:stretch/>
          </p:blipFill>
          <p:spPr>
            <a:xfrm>
              <a:off x="379404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5" descr=""/>
            <p:cNvPicPr/>
            <p:nvPr/>
          </p:nvPicPr>
          <p:blipFill>
            <a:blip r:embed="rId22"/>
            <a:stretch/>
          </p:blipFill>
          <p:spPr>
            <a:xfrm>
              <a:off x="418140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6" descr=""/>
            <p:cNvPicPr/>
            <p:nvPr/>
          </p:nvPicPr>
          <p:blipFill>
            <a:blip r:embed="rId23"/>
            <a:stretch/>
          </p:blipFill>
          <p:spPr>
            <a:xfrm>
              <a:off x="4568760" y="4683240"/>
              <a:ext cx="7891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Freeform 47"/>
            <p:cNvSpPr/>
            <p:nvPr/>
          </p:nvSpPr>
          <p:spPr>
            <a:xfrm>
              <a:off x="3852720" y="1619640"/>
              <a:ext cx="1462320" cy="94752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70" h="462">
                  <a:moveTo>
                    <a:pt x="770" y="374"/>
                  </a:moveTo>
                  <a:lnTo>
                    <a:pt x="770" y="374"/>
                  </a:lnTo>
                  <a:lnTo>
                    <a:pt x="766" y="389"/>
                  </a:lnTo>
                  <a:lnTo>
                    <a:pt x="763" y="408"/>
                  </a:lnTo>
                  <a:lnTo>
                    <a:pt x="755" y="424"/>
                  </a:lnTo>
                  <a:lnTo>
                    <a:pt x="743" y="435"/>
                  </a:lnTo>
                  <a:lnTo>
                    <a:pt x="732" y="447"/>
                  </a:lnTo>
                  <a:lnTo>
                    <a:pt x="716" y="454"/>
                  </a:lnTo>
                  <a:lnTo>
                    <a:pt x="701" y="458"/>
                  </a:lnTo>
                  <a:lnTo>
                    <a:pt x="682" y="462"/>
                  </a:lnTo>
                  <a:lnTo>
                    <a:pt x="89" y="462"/>
                  </a:lnTo>
                  <a:lnTo>
                    <a:pt x="73" y="458"/>
                  </a:lnTo>
                  <a:lnTo>
                    <a:pt x="54" y="454"/>
                  </a:lnTo>
                  <a:lnTo>
                    <a:pt x="39" y="447"/>
                  </a:lnTo>
                  <a:lnTo>
                    <a:pt x="27" y="435"/>
                  </a:lnTo>
                  <a:lnTo>
                    <a:pt x="16" y="424"/>
                  </a:lnTo>
                  <a:lnTo>
                    <a:pt x="8" y="408"/>
                  </a:lnTo>
                  <a:lnTo>
                    <a:pt x="4" y="389"/>
                  </a:lnTo>
                  <a:lnTo>
                    <a:pt x="0" y="374"/>
                  </a:lnTo>
                  <a:lnTo>
                    <a:pt x="0" y="89"/>
                  </a:lnTo>
                  <a:lnTo>
                    <a:pt x="4" y="69"/>
                  </a:lnTo>
                  <a:lnTo>
                    <a:pt x="8" y="54"/>
                  </a:lnTo>
                  <a:lnTo>
                    <a:pt x="16" y="39"/>
                  </a:lnTo>
                  <a:lnTo>
                    <a:pt x="27" y="27"/>
                  </a:lnTo>
                  <a:lnTo>
                    <a:pt x="39" y="15"/>
                  </a:lnTo>
                  <a:lnTo>
                    <a:pt x="54" y="8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682" y="0"/>
                  </a:lnTo>
                  <a:lnTo>
                    <a:pt x="701" y="0"/>
                  </a:lnTo>
                  <a:lnTo>
                    <a:pt x="716" y="8"/>
                  </a:lnTo>
                  <a:lnTo>
                    <a:pt x="732" y="15"/>
                  </a:lnTo>
                  <a:lnTo>
                    <a:pt x="743" y="27"/>
                  </a:lnTo>
                  <a:lnTo>
                    <a:pt x="755" y="39"/>
                  </a:lnTo>
                  <a:lnTo>
                    <a:pt x="763" y="54"/>
                  </a:lnTo>
                  <a:lnTo>
                    <a:pt x="766" y="69"/>
                  </a:lnTo>
                  <a:lnTo>
                    <a:pt x="770" y="89"/>
                  </a:lnTo>
                  <a:lnTo>
                    <a:pt x="77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4195800" y="1802160"/>
              <a:ext cx="111240" cy="2682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8" h="131">
                  <a:moveTo>
                    <a:pt x="58" y="104"/>
                  </a:moveTo>
                  <a:lnTo>
                    <a:pt x="58" y="104"/>
                  </a:lnTo>
                  <a:lnTo>
                    <a:pt x="54" y="115"/>
                  </a:lnTo>
                  <a:lnTo>
                    <a:pt x="50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9" y="131"/>
                  </a:lnTo>
                  <a:lnTo>
                    <a:pt x="8" y="123"/>
                  </a:lnTo>
                  <a:lnTo>
                    <a:pt x="4" y="115"/>
                  </a:lnTo>
                  <a:lnTo>
                    <a:pt x="0" y="104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49"/>
            <p:cNvSpPr/>
            <p:nvPr/>
          </p:nvSpPr>
          <p:spPr>
            <a:xfrm>
              <a:off x="4195800" y="2084760"/>
              <a:ext cx="102960" cy="269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4" h="131">
                  <a:moveTo>
                    <a:pt x="54" y="104"/>
                  </a:moveTo>
                  <a:lnTo>
                    <a:pt x="54" y="104"/>
                  </a:lnTo>
                  <a:lnTo>
                    <a:pt x="54" y="116"/>
                  </a:lnTo>
                  <a:lnTo>
                    <a:pt x="46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6" y="131"/>
                  </a:lnTo>
                  <a:lnTo>
                    <a:pt x="8" y="123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3948120" y="2014920"/>
              <a:ext cx="247680" cy="117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57">
                  <a:moveTo>
                    <a:pt x="104" y="0"/>
                  </a:moveTo>
                  <a:lnTo>
                    <a:pt x="104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1" y="19"/>
                  </a:lnTo>
                  <a:lnTo>
                    <a:pt x="131" y="30"/>
                  </a:lnTo>
                  <a:lnTo>
                    <a:pt x="131" y="38"/>
                  </a:lnTo>
                  <a:lnTo>
                    <a:pt x="123" y="50"/>
                  </a:lnTo>
                  <a:lnTo>
                    <a:pt x="116" y="54"/>
                  </a:lnTo>
                  <a:lnTo>
                    <a:pt x="104" y="57"/>
                  </a:lnTo>
                  <a:lnTo>
                    <a:pt x="27" y="57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429876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6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6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Rectangle 52"/>
            <p:cNvSpPr/>
            <p:nvPr/>
          </p:nvSpPr>
          <p:spPr>
            <a:xfrm>
              <a:off x="601560" y="1802160"/>
              <a:ext cx="27792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717480" y="18640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3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717480" y="196092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638280" y="19353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6"/>
            <p:cNvSpPr/>
            <p:nvPr/>
          </p:nvSpPr>
          <p:spPr>
            <a:xfrm>
              <a:off x="755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Rectangle 57"/>
            <p:cNvSpPr/>
            <p:nvPr/>
          </p:nvSpPr>
          <p:spPr>
            <a:xfrm>
              <a:off x="6008760" y="1802160"/>
              <a:ext cx="27756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6059520" y="193536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6146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Rectangle 60"/>
            <p:cNvSpPr/>
            <p:nvPr/>
          </p:nvSpPr>
          <p:spPr>
            <a:xfrm>
              <a:off x="6008760" y="218772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61"/>
            <p:cNvSpPr/>
            <p:nvPr/>
          </p:nvSpPr>
          <p:spPr>
            <a:xfrm>
              <a:off x="6059520" y="232272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62"/>
            <p:cNvSpPr/>
            <p:nvPr/>
          </p:nvSpPr>
          <p:spPr>
            <a:xfrm>
              <a:off x="6146640" y="232272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1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Rectangle 63"/>
            <p:cNvSpPr/>
            <p:nvPr/>
          </p:nvSpPr>
          <p:spPr>
            <a:xfrm>
              <a:off x="6000840" y="25671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64"/>
            <p:cNvSpPr/>
            <p:nvPr/>
          </p:nvSpPr>
          <p:spPr>
            <a:xfrm>
              <a:off x="6053040" y="270216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65"/>
            <p:cNvSpPr/>
            <p:nvPr/>
          </p:nvSpPr>
          <p:spPr>
            <a:xfrm>
              <a:off x="6140520" y="2702160"/>
              <a:ext cx="88920" cy="3960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7" h="19">
                  <a:moveTo>
                    <a:pt x="35" y="0"/>
                  </a:moveTo>
                  <a:lnTo>
                    <a:pt x="35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Rectangle 66"/>
            <p:cNvSpPr/>
            <p:nvPr/>
          </p:nvSpPr>
          <p:spPr>
            <a:xfrm>
              <a:off x="6008760" y="294660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67"/>
            <p:cNvSpPr/>
            <p:nvPr/>
          </p:nvSpPr>
          <p:spPr>
            <a:xfrm>
              <a:off x="6059520" y="3079800"/>
              <a:ext cx="87120" cy="41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68"/>
            <p:cNvSpPr/>
            <p:nvPr/>
          </p:nvSpPr>
          <p:spPr>
            <a:xfrm>
              <a:off x="6146640" y="3079800"/>
              <a:ext cx="87480" cy="414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Rectangle 69"/>
            <p:cNvSpPr/>
            <p:nvPr/>
          </p:nvSpPr>
          <p:spPr>
            <a:xfrm>
              <a:off x="6008760" y="3416400"/>
              <a:ext cx="27756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70"/>
            <p:cNvSpPr/>
            <p:nvPr/>
          </p:nvSpPr>
          <p:spPr>
            <a:xfrm>
              <a:off x="6059520" y="354204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71"/>
            <p:cNvSpPr/>
            <p:nvPr/>
          </p:nvSpPr>
          <p:spPr>
            <a:xfrm>
              <a:off x="6146640" y="354996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Rectangle 72"/>
            <p:cNvSpPr/>
            <p:nvPr/>
          </p:nvSpPr>
          <p:spPr>
            <a:xfrm>
              <a:off x="6008760" y="42213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73"/>
            <p:cNvSpPr/>
            <p:nvPr/>
          </p:nvSpPr>
          <p:spPr>
            <a:xfrm>
              <a:off x="6059520" y="4346640"/>
              <a:ext cx="87120" cy="39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74"/>
            <p:cNvSpPr/>
            <p:nvPr/>
          </p:nvSpPr>
          <p:spPr>
            <a:xfrm>
              <a:off x="6146640" y="4354560"/>
              <a:ext cx="87480" cy="320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6" h="15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Rectangle 75"/>
            <p:cNvSpPr/>
            <p:nvPr/>
          </p:nvSpPr>
          <p:spPr>
            <a:xfrm>
              <a:off x="601560" y="2187720"/>
              <a:ext cx="27792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76"/>
            <p:cNvSpPr/>
            <p:nvPr/>
          </p:nvSpPr>
          <p:spPr>
            <a:xfrm>
              <a:off x="717480" y="22514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77"/>
            <p:cNvSpPr/>
            <p:nvPr/>
          </p:nvSpPr>
          <p:spPr>
            <a:xfrm>
              <a:off x="717480" y="2345040"/>
              <a:ext cx="38160" cy="96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78"/>
            <p:cNvSpPr/>
            <p:nvPr/>
          </p:nvSpPr>
          <p:spPr>
            <a:xfrm>
              <a:off x="638280" y="23227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79"/>
            <p:cNvSpPr/>
            <p:nvPr/>
          </p:nvSpPr>
          <p:spPr>
            <a:xfrm>
              <a:off x="755640" y="23306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Rectangle 80"/>
            <p:cNvSpPr/>
            <p:nvPr/>
          </p:nvSpPr>
          <p:spPr>
            <a:xfrm>
              <a:off x="601560" y="256716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81"/>
            <p:cNvSpPr/>
            <p:nvPr/>
          </p:nvSpPr>
          <p:spPr>
            <a:xfrm>
              <a:off x="717480" y="2622600"/>
              <a:ext cx="38160" cy="93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82"/>
            <p:cNvSpPr/>
            <p:nvPr/>
          </p:nvSpPr>
          <p:spPr>
            <a:xfrm>
              <a:off x="717480" y="27244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5"/>
                  </a:moveTo>
                  <a:lnTo>
                    <a:pt x="20" y="35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83"/>
            <p:cNvSpPr/>
            <p:nvPr/>
          </p:nvSpPr>
          <p:spPr>
            <a:xfrm>
              <a:off x="638280" y="2702160"/>
              <a:ext cx="79200" cy="3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5">
                  <a:moveTo>
                    <a:pt x="35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2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84"/>
            <p:cNvSpPr/>
            <p:nvPr/>
          </p:nvSpPr>
          <p:spPr>
            <a:xfrm>
              <a:off x="755640" y="27021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3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Rectangle 85"/>
            <p:cNvSpPr/>
            <p:nvPr/>
          </p:nvSpPr>
          <p:spPr>
            <a:xfrm>
              <a:off x="601560" y="315288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86"/>
            <p:cNvSpPr/>
            <p:nvPr/>
          </p:nvSpPr>
          <p:spPr>
            <a:xfrm>
              <a:off x="717480" y="321660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87"/>
            <p:cNvSpPr/>
            <p:nvPr/>
          </p:nvSpPr>
          <p:spPr>
            <a:xfrm>
              <a:off x="717480" y="33116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88"/>
            <p:cNvSpPr/>
            <p:nvPr/>
          </p:nvSpPr>
          <p:spPr>
            <a:xfrm>
              <a:off x="638280" y="328644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89"/>
            <p:cNvSpPr/>
            <p:nvPr/>
          </p:nvSpPr>
          <p:spPr>
            <a:xfrm>
              <a:off x="755640" y="32864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Rectangle 90"/>
            <p:cNvSpPr/>
            <p:nvPr/>
          </p:nvSpPr>
          <p:spPr>
            <a:xfrm>
              <a:off x="601560" y="352440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91"/>
            <p:cNvSpPr/>
            <p:nvPr/>
          </p:nvSpPr>
          <p:spPr>
            <a:xfrm>
              <a:off x="717480" y="35881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92"/>
            <p:cNvSpPr/>
            <p:nvPr/>
          </p:nvSpPr>
          <p:spPr>
            <a:xfrm>
              <a:off x="717480" y="368316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93"/>
            <p:cNvSpPr/>
            <p:nvPr/>
          </p:nvSpPr>
          <p:spPr>
            <a:xfrm>
              <a:off x="638280" y="36579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94"/>
            <p:cNvSpPr/>
            <p:nvPr/>
          </p:nvSpPr>
          <p:spPr>
            <a:xfrm>
              <a:off x="755640" y="366588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4" y="15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Rectangle 95"/>
            <p:cNvSpPr/>
            <p:nvPr/>
          </p:nvSpPr>
          <p:spPr>
            <a:xfrm>
              <a:off x="601560" y="3910320"/>
              <a:ext cx="27792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96"/>
            <p:cNvSpPr/>
            <p:nvPr/>
          </p:nvSpPr>
          <p:spPr>
            <a:xfrm>
              <a:off x="717480" y="3973680"/>
              <a:ext cx="38160" cy="95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97"/>
            <p:cNvSpPr/>
            <p:nvPr/>
          </p:nvSpPr>
          <p:spPr>
            <a:xfrm>
              <a:off x="717480" y="406908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98"/>
            <p:cNvSpPr/>
            <p:nvPr/>
          </p:nvSpPr>
          <p:spPr>
            <a:xfrm>
              <a:off x="638280" y="40453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99"/>
            <p:cNvSpPr/>
            <p:nvPr/>
          </p:nvSpPr>
          <p:spPr>
            <a:xfrm>
              <a:off x="755640" y="405468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100"/>
            <p:cNvSpPr/>
            <p:nvPr/>
          </p:nvSpPr>
          <p:spPr>
            <a:xfrm>
              <a:off x="4694400" y="2021040"/>
              <a:ext cx="247320" cy="11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5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5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101"/>
            <p:cNvSpPr/>
            <p:nvPr/>
          </p:nvSpPr>
          <p:spPr>
            <a:xfrm>
              <a:off x="494964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1" y="4"/>
                  </a:lnTo>
                  <a:lnTo>
                    <a:pt x="123" y="8"/>
                  </a:lnTo>
                  <a:lnTo>
                    <a:pt x="127" y="20"/>
                  </a:lnTo>
                  <a:lnTo>
                    <a:pt x="131" y="27"/>
                  </a:lnTo>
                  <a:lnTo>
                    <a:pt x="127" y="39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Rectangle 102"/>
            <p:cNvSpPr/>
            <p:nvPr/>
          </p:nvSpPr>
          <p:spPr>
            <a:xfrm>
              <a:off x="1469160" y="15480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Rectangle 103"/>
            <p:cNvSpPr/>
            <p:nvPr/>
          </p:nvSpPr>
          <p:spPr>
            <a:xfrm>
              <a:off x="6876360" y="15480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Rectangle 104"/>
            <p:cNvSpPr/>
            <p:nvPr/>
          </p:nvSpPr>
          <p:spPr>
            <a:xfrm>
              <a:off x="1086480" y="186408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zed training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Rectangle 105"/>
            <p:cNvSpPr/>
            <p:nvPr/>
          </p:nvSpPr>
          <p:spPr>
            <a:xfrm>
              <a:off x="1085040" y="224352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Rectangle 106"/>
            <p:cNvSpPr/>
            <p:nvPr/>
          </p:nvSpPr>
          <p:spPr>
            <a:xfrm>
              <a:off x="1088280" y="2622600"/>
              <a:ext cx="1506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 market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Rectangle 107"/>
            <p:cNvSpPr/>
            <p:nvPr/>
          </p:nvSpPr>
          <p:spPr>
            <a:xfrm>
              <a:off x="1085400" y="3208680"/>
              <a:ext cx="18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Rectangle 108"/>
            <p:cNvSpPr/>
            <p:nvPr/>
          </p:nvSpPr>
          <p:spPr>
            <a:xfrm>
              <a:off x="1086120" y="358632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icker startup tim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Rectangle 109"/>
            <p:cNvSpPr/>
            <p:nvPr/>
          </p:nvSpPr>
          <p:spPr>
            <a:xfrm>
              <a:off x="1084680" y="3965760"/>
              <a:ext cx="1710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all lower failur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Rectangle 110"/>
            <p:cNvSpPr/>
            <p:nvPr/>
          </p:nvSpPr>
          <p:spPr>
            <a:xfrm>
              <a:off x="6420240" y="186408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e fe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Rectangle 111"/>
            <p:cNvSpPr/>
            <p:nvPr/>
          </p:nvSpPr>
          <p:spPr>
            <a:xfrm>
              <a:off x="6421680" y="224352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yalt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112"/>
            <p:cNvSpPr/>
            <p:nvPr/>
          </p:nvSpPr>
          <p:spPr>
            <a:xfrm>
              <a:off x="6418800" y="2622600"/>
              <a:ext cx="19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trictions on growth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Rectangle 113"/>
            <p:cNvSpPr/>
            <p:nvPr/>
          </p:nvSpPr>
          <p:spPr>
            <a:xfrm>
              <a:off x="6418440" y="2948040"/>
              <a:ext cx="1860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independence i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Rectangle 114"/>
            <p:cNvSpPr/>
            <p:nvPr/>
          </p:nvSpPr>
          <p:spPr>
            <a:xfrm>
              <a:off x="6418080" y="3451320"/>
              <a:ext cx="1992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or may be sol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 of so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Rectangle 115"/>
            <p:cNvSpPr/>
            <p:nvPr/>
          </p:nvSpPr>
          <p:spPr>
            <a:xfrm>
              <a:off x="6419160" y="4235760"/>
              <a:ext cx="1735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ion/renew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80680" y="261720"/>
            <a:ext cx="80773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DB28FA4E-1BBC-4321-B080-8C694E1686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bability of su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n line of busines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e-qualification of franchis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i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prov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inancial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 assistanc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perating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a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4572000" y="1447920"/>
            <a:ext cx="37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e cos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itial franchise f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vestment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ty paymen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dvertising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strictions on Business Oper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oss of independe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2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ke</dc:creator>
  <dc:description/>
  <dc:language>en-US</dc:language>
  <cp:lastModifiedBy>Tilley, Paul (C'ville)</cp:lastModifiedBy>
  <dcterms:modified xsi:type="dcterms:W3CDTF">2014-02-28T14:00:16Z</dcterms:modified>
  <cp:revision>176</cp:revision>
  <dc:subject/>
  <dc:title>PowerPoint Presentation</dc:title>
</cp:coreProperties>
</file>